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3ED-203E-4980-8907-D874B40C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C96-C8B4-44B1-AA0F-14A878D0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9C5-1057-4615-8A96-A85DB0C1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C75-2B68-4E23-A22C-62AFBE9A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03F6-0C30-42B3-8190-887EA4E5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39DD-8857-4F79-9E90-8FBA8397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341-C83B-40BB-8897-451F162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494-E84B-40B3-AA64-A2C724D4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93C1-0334-48EF-BDCE-C0522625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46D-3518-4DCC-8AB0-09ADB0A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267-B7DE-44F4-8C61-2F26529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FC4-C43D-41E4-A9A6-CC6FD5B1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9CAF-5A51-4D4A-8264-09848AA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622B-0B7E-46B0-AC5A-CA3CFF1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643-ED68-4D4A-A879-3A3BDE2B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11D-1880-4B21-A6A1-058BB9CC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DDB-93B5-4EDC-879F-2147B4EF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00EF-8EC0-4F42-820A-761E9509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DC39-3279-4CC3-ACF5-60295A91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5594-F9B7-441F-8AA0-43D3974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F4EC-C990-4882-98CC-6CDDDB0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DAEB-ACB6-4423-8CC8-403DFCA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CEE-34F9-428F-A237-21721435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B018-310B-47B3-8930-299C161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062F-9C73-4E54-93A0-11640EA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7E22-C29F-4895-9483-79F3999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673F-28D3-4DA0-945F-829BAA0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E299-1D05-438C-8C9E-958940A3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150B-2C42-4F83-BE53-2FFEB7A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DA12-9B99-4130-9A9B-AD23D0A5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9306-8A0F-4ADB-8C4F-5EE73F18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B149-5EB1-4EFD-99A3-1A1055FF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3662-D81A-4CB9-B0EC-F89D0A26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A12-7505-4AB9-9C99-6D87D0C3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A718-E8C2-48EB-94A9-0B0A7EF1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8EF9-991E-4004-AA20-852E21B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3FC8-E0D4-4C86-939C-B717C30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6860-1F70-48AE-8F96-785F844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941C-DF73-4590-B7A4-6DACDBE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B7B1-A7E9-42E0-91E3-89A668D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5186-385C-4D08-80CB-C802F43A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11B7-2651-468F-A63A-6E885EFF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0733-DD7E-45C1-B27C-6B7C0C97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060-AF61-4283-9995-CA29CC0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D98-76CD-4800-94DF-96D57EEE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530-393F-4456-8DB0-5AB755E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9E5-017E-42EA-9429-CFB1A5C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7F0-9B5D-4B13-A901-B09BDB9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7C97-10A5-432E-99EC-D4555675D6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088-D65D-489A-9556-57779C64F6B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0A79-36D7-4B5F-9E9B-BA438F0DFE8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AE1-96B3-4CCE-B3E8-D8C7C931CF4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196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lletin Bo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EDTECK 003.jpg"/>
          <p:cNvPicPr/>
          <p:nvPr/>
        </p:nvPicPr>
        <p:blipFill>
          <a:blip r:embed="rId2"/>
          <a:stretch/>
        </p:blipFill>
        <p:spPr>
          <a:xfrm>
            <a:off x="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EDTECK 004.jpg"/>
          <p:cNvPicPr/>
          <p:nvPr/>
        </p:nvPicPr>
        <p:blipFill>
          <a:blip r:embed="rId3"/>
          <a:stretch/>
        </p:blipFill>
        <p:spPr>
          <a:xfrm>
            <a:off x="4411800" y="3309840"/>
            <a:ext cx="4732200" cy="354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wEDTECK 001.jpg"/>
          <p:cNvPicPr/>
          <p:nvPr/>
        </p:nvPicPr>
        <p:blipFill>
          <a:blip r:embed="rId4"/>
          <a:stretch/>
        </p:blipFill>
        <p:spPr>
          <a:xfrm>
            <a:off x="4411800" y="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wEDTECK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wEDTECK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6" descr="wEDTECK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wEDTECK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ints for Improv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tter heads are not that big enoug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nnouncements/Jobs posted are not eye-catch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obs Listed are scrambled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ITSE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/BEED degree hol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2 to 3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Crisel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AHAN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G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ED FILIPINO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2 to 3 taong eksperyens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umugol na sa Filipino department at hanapin si Majorie o si Arc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7162920" y="2057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B OPPORT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476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HR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’6’’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SBA - HR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9 years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gy. Cleara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y now at the Ateneo Human Resources Section look for Mercedita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343400" y="1828800"/>
            <a:ext cx="3581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S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YPI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eas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st h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or withou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uter-lit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 to Ateneo de Davao Theology office and look for Mrs. Lucrecia Guev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7238880" y="10666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21:42:29Z</dcterms:created>
  <dc:creator>Imperialdramon</dc:creator>
  <dc:description/>
  <dc:language>en-US</dc:language>
  <cp:lastModifiedBy>Jaiza Arcilla </cp:lastModifiedBy>
  <dcterms:modified xsi:type="dcterms:W3CDTF">2012-08-30T00:50:35Z</dcterms:modified>
  <cp:revision>7</cp:revision>
  <dc:subject/>
  <dc:title>Slide 1</dc:title>
</cp:coreProperties>
</file>